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3527-7206-4685-B66F-B9BD4613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B25-2092-498D-A399-91F274CD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3041-0DB7-495A-A079-FE909DFE0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F95-29D2-422F-8E65-2CA943A4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950-4537-4F6B-B07B-9E232D14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050-2E48-4E48-8BE8-AB0A50C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89E-65BE-4F5D-B6F9-33350BBF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181-B9B9-4C2B-8226-B541B3F9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497-198C-42C3-AAF5-90D79A9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B69-7AA8-445A-A537-4DC67E3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400-6A2A-495F-A45C-F298537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CA9-A655-4ACC-B488-6FC29C1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77D-C9E0-48A5-A7BD-64BBD2E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049-CE36-4FDA-8C2F-05FB97D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273-B0D0-49F1-BDF1-C28A870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57-35CD-44D1-8C20-682CD5A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A136-FA01-48F8-BA6E-3449486F8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upload.wikimedia.org/wikipedia/commons/c/c3/37_Lyndon_Johnson_3x4.jpg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imdb.com/rg/mediaindex/thumbnail/media/rm1416206336/nm0000069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www.rascofromrif.org/wp-content/uploads/2009/07/chains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rascofromrif.org/wp-content/uploads/2009/07/chains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rascofromrif.org/wp-content/uploads/2009/07/chains.jpg" TargetMode="External"/><Relationship Id="rId15" Type="http://schemas.openxmlformats.org/officeDocument/2006/relationships/image" Target="../media/image4.jpeg"/><Relationship Id="rId16" Type="http://schemas.openxmlformats.org/officeDocument/2006/relationships/hyperlink" Target="http://www.rascofromrif.org/wp-content/uploads/2009/07/chains.jpg" TargetMode="External"/><Relationship Id="rId17" Type="http://schemas.openxmlformats.org/officeDocument/2006/relationships/image" Target="../media/image4.jpeg"/><Relationship Id="rId18" Type="http://schemas.openxmlformats.org/officeDocument/2006/relationships/hyperlink" Target="http://www.rascofromrif.org/wp-content/uploads/2009/07/chains.jp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rascofromrif.org/wp-content/uploads/2009/07/chains.jpg" TargetMode="External"/><Relationship Id="rId21" Type="http://schemas.openxmlformats.org/officeDocument/2006/relationships/image" Target="../media/image4.jpeg"/><Relationship Id="rId22" Type="http://schemas.openxmlformats.org/officeDocument/2006/relationships/hyperlink" Target="http://www.rascofromrif.org/wp-content/uploads/2009/07/chains.jpg" TargetMode="External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6.jpeg"/><Relationship Id="rId26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27" Type="http://schemas.openxmlformats.org/officeDocument/2006/relationships/image" Target="../media/image7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rascofromrif.org/wp-content/uploads/2009/07/chains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rascofromrif.org/wp-content/uploads/2009/07/chains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9.jpeg"/><Relationship Id="rId8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3" Type="http://schemas.openxmlformats.org/officeDocument/2006/relationships/image" Target="../media/image8.jpeg"/><Relationship Id="rId14" Type="http://schemas.openxmlformats.org/officeDocument/2006/relationships/image" Target="../media/image7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depressed from a hard day of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Garden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Gardener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ocat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anhattan N,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anhattan, 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8" descr="File:37 Lyndon Johnson 3x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1" descr="Frank Sinatra, portrait for Kings Go Forth, 1958.&#10;Vintage silver gelatin, 7x13.5, signed. $900&#10;Â© 1978 Bill Avery&#10;MPT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0"/>
          <p:cNvSpPr/>
          <p:nvPr/>
        </p:nvSpPr>
        <p:spPr>
          <a:xfrm>
            <a:off x="-15228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2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is mad about her sister being sold.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just pulled Lady Seymour out of a fi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wants to be fre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 has just been branded by Mad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visited her grandfather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ner is sad about her mothers de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9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4920" y="838080"/>
            <a:ext cx="121896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1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33720" y="2438280"/>
            <a:ext cx="380880" cy="58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3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3124080"/>
            <a:ext cx="380880" cy="5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5" descr="See full 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133720" y="3792600"/>
            <a:ext cx="380880" cy="58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7" descr="See full 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133720" y="4478400"/>
            <a:ext cx="380880" cy="62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9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5164200"/>
            <a:ext cx="380880" cy="5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1" descr="See full size image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133720" y="5925960"/>
            <a:ext cx="380880" cy="703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9"/>
          <p:cNvSpPr/>
          <p:nvPr/>
        </p:nvSpPr>
        <p:spPr>
          <a:xfrm>
            <a:off x="609480" y="586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7"/>
          <p:cNvSpPr/>
          <p:nvPr/>
        </p:nvSpPr>
        <p:spPr>
          <a:xfrm>
            <a:off x="12193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8" descr="http://www.digital-photography-school.com/wp-content/black-and-white.jpg"/>
          <p:cNvPicPr/>
          <p:nvPr/>
        </p:nvPicPr>
        <p:blipFill>
          <a:blip r:embed="rId24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7"/>
          <p:cNvSpPr/>
          <p:nvPr/>
        </p:nvSpPr>
        <p:spPr>
          <a:xfrm>
            <a:off x="3600" y="661176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http://www.portraits-chicago.com/wp-content/uploads/2009/04/black-and-white-photography-pictures.jpg"/>
          <p:cNvPicPr/>
          <p:nvPr/>
        </p:nvPicPr>
        <p:blipFill>
          <a:blip r:embed="rId25"/>
          <a:stretch/>
        </p:blipFill>
        <p:spPr>
          <a:xfrm>
            <a:off x="152280" y="6095880"/>
            <a:ext cx="457200" cy="55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http://t3.gstatic.com/images?q=tbn:ANd9GcTFDGp_PExuNPbP5uWUSNFpGCJNNGNKRenQ6_6O90sm-Wdd7uFu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abel Gardener is depressed from a hard day of wor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Gardener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Gardener’s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nhattan, N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  slave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3720" y="3200400"/>
            <a:ext cx="449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 NTRESTS:  being free, and finding her si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533520"/>
            <a:ext cx="1371600" cy="187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http://t3.gstatic.com/images?q=tbn:ANd9GcTFDGp_PExuNPbP5uWUSNFpGCJNNGNKRenQ6_6O90sm-Wdd7uF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57800"/>
            <a:ext cx="685800" cy="81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http://t1.gstatic.com/images?q=tbn:ANd9GcSezrNlkKQBWOnFQB5MLyh-nh-FqFZbfCj88eEXn72GBSlOQLo8MkmYUrt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72200"/>
            <a:ext cx="762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85800" y="15238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 Gardener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pressed from a hard day of work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8" descr="http://www.digital-photography-school.com/wp-content/black-and-white.jpg"/>
          <p:cNvPicPr/>
          <p:nvPr/>
        </p:nvPicPr>
        <p:blipFill>
          <a:blip r:embed="rId3"/>
          <a:stretch/>
        </p:blipFill>
        <p:spPr>
          <a:xfrm>
            <a:off x="914400" y="1828800"/>
            <a:ext cx="1044720" cy="12193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9" descr="http://www.portraits-chicago.com/wp-content/uploads/2009/04/black-and-white-photography-pictures.jpg"/>
          <p:cNvPicPr/>
          <p:nvPr/>
        </p:nvPicPr>
        <p:blipFill>
          <a:blip r:embed="rId4"/>
          <a:stretch/>
        </p:blipFill>
        <p:spPr>
          <a:xfrm>
            <a:off x="2590920" y="18288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9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57200"/>
            <a:ext cx="609840" cy="8064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0"/>
          <p:cNvSpPr/>
          <p:nvPr/>
        </p:nvSpPr>
        <p:spPr>
          <a:xfrm>
            <a:off x="63360" y="-136440"/>
            <a:ext cx="409572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2" descr="http://www.adrants.com/images/hitler_black_people.jpg"/>
          <p:cNvPicPr/>
          <p:nvPr/>
        </p:nvPicPr>
        <p:blipFill>
          <a:blip r:embed="rId7"/>
          <a:stretch/>
        </p:blipFill>
        <p:spPr>
          <a:xfrm>
            <a:off x="4038480" y="1828800"/>
            <a:ext cx="1143000" cy="138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4" descr="http://t3.gstatic.com/images?q=tbn:ANd9GcTFDGp_PExuNPbP5uWUSNFpGCJNNGNKRenQ6_6O90sm-Wdd7uF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828800"/>
            <a:ext cx="1104840" cy="131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8" descr="http://t1.gstatic.com/images?q=tbn:ANd9GcSezrNlkKQBWOnFQB5MLyh-nh-FqFZbfCj88eEXn72GBSlOQLo8MkmYUrt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38080" y="33526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0" descr="http://t1.gstatic.com/images?q=tbn:ANd9GcSezrNlkKQBWOnFQB5MLyh-nh-FqFZbfCj88eEXn72GBSlOQLo8MkmYUrt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676520" y="4952880"/>
            <a:ext cx="1828800" cy="13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4" descr="http://t3.gstatic.com/images?q=tbn:ANd9GcTFDGp_PExuNPbP5uWUSNFpGCJNNGNKRenQ6_6O90sm-Wdd7uFu"/>
          <p:cNvPicPr/>
          <p:nvPr/>
        </p:nvPicPr>
        <p:blipFill>
          <a:blip r:embed="rId14"/>
          <a:stretch/>
        </p:blipFill>
        <p:spPr>
          <a:xfrm>
            <a:off x="1143000" y="5638680"/>
            <a:ext cx="533520" cy="63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8" descr="http://www.digital-photography-school.com/wp-content/black-and-white.jpg"/>
          <p:cNvPicPr/>
          <p:nvPr/>
        </p:nvPicPr>
        <p:blipFill>
          <a:blip r:embed="rId15"/>
          <a:stretch/>
        </p:blipFill>
        <p:spPr>
          <a:xfrm>
            <a:off x="609480" y="5638680"/>
            <a:ext cx="522360" cy="609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See full size image"/>
          <p:cNvPicPr/>
          <p:nvPr/>
        </p:nvPicPr>
        <p:blipFill>
          <a:blip r:embed="rId16"/>
          <a:stretch/>
        </p:blipFill>
        <p:spPr>
          <a:xfrm>
            <a:off x="3733920" y="5105520"/>
            <a:ext cx="8380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5T18:41:25Z</dcterms:modified>
  <cp:revision>42</cp:revision>
  <dc:subject/>
  <dc:title>Profile</dc:title>
</cp:coreProperties>
</file>